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0897-CED1-4516-8B5E-46DE74A884C1}"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9E44-0D90-4C51-B609-EA98E33DDC5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training module is part of the Federation of Earth Science Information Partners (or ESIP Federation’s) Data Management Course for Scientists.  The subject of this module is “The case for data management: Agency Requirements.”  This module was authored by Ruth Duerr from the National Snow and Ice Data Center.  Besides the ESIP Federation, sponsors of this Data Management Course are the Data Conservancy and the United States National Oceanographic and Atmospheric Administration (NOAA).</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CD79-64CF-49FA-B449-04963BE37EA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odule provides a high level overview of the ways that some of the US Federal Agencies, in particular those that deal with Earth Science data, are promoting good data management practi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se are, for the most part, new requirements you will have to decide for yourself whether the carrot of funding is worth the new responsibilities or whether these just yet another sti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FE2E-D328-4CA9-B6BE-47F1AD3907B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FB4C-5FDE-484F-8959-3884CC082F9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59280" y="299880"/>
            <a:ext cx="629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The case for data stewardship</a:t>
            </a:r>
            <a:r>
              <a:rPr b="0" lang="en-US" sz="1200" spc="-1" strike="noStrike">
                <a:solidFill>
                  <a:srgbClr val="000000"/>
                </a:solidFill>
                <a:latin typeface="Helvetica Neue Light"/>
              </a:rPr>
              <a:t>: Agency Requirement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The Case for Data Management: </a:t>
            </a:r>
            <a:br>
              <a:rPr sz="4800"/>
            </a:br>
            <a:r>
              <a:rPr b="0" lang="en-US" sz="4800" spc="-1" strike="noStrike">
                <a:solidFill>
                  <a:srgbClr val="000000"/>
                </a:solidFill>
                <a:latin typeface="Helvetica Neue Light"/>
              </a:rPr>
              <a:t>Agency Requirement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5016240"/>
            <a:ext cx="11861640" cy="317484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65988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agencies have or are developing data management policies or guidelin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n investigator</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discuss data management in your proposals in order to obtain fund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follow agency mandates in regards to managing or archiving the data you generate in order to retain funded status</a:t>
            </a: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4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4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659880"/>
            <a:ext cx="951228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gencies requiring data management discussion in proposals</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requires a two page data management plan submitted with all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ASA Earth Science solicitations require a discussion of data management in submitted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requires that NOAA grantees include a Data Sharing Plan as part of their project narrativ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posals to the USGS National Climate Change and Wildlife Science Center or any of the Department of the Interiors Climate Science Centers require a Proposal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659880"/>
            <a:ext cx="951228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gencies with data management mandates</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SF directorates and even specific solicitations have detailed requirements for what data should be archived and where the data should go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ll NASA Earth Science science missions, projects, and grants and cooperative agreements require a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is in the process of developing a comprehensive suite of data management related procedural directives covering all NOAA-related data activit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GS NCCWSC and DOI CSC funded projects must develop and maintain a Research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65988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sources</a:t>
            </a: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209680"/>
            <a:ext cx="11861640" cy="668016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UC3 overview of Federal Funding Agency Data Management and Sharing Policies: http://www.cdlib.org/services/uc3/datamanagement/funding.html</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Agency Guidance:</a:t>
            </a:r>
            <a:endParaRPr b="0" lang="en-US" sz="32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NSF Guidance: http://www.nsf.gov/bfa/dias/policy/dmp.jsp</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NASA Data Policy: http://science1.nasa.gov/earth-science/earth-science-data/data-information-policy/</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NOAA Administrative Order 212-15: </a:t>
            </a:r>
            <a:r>
              <a:rPr b="0" lang="en-US" sz="2400" spc="-1" strike="noStrike">
                <a:solidFill>
                  <a:srgbClr val="606060"/>
                </a:solidFill>
                <a:latin typeface="Helvetica Neue"/>
              </a:rPr>
              <a:t>http://www.corporateservices.noaa.gov/ames/administrative_orders/chapter_212/212-15.html</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USGS National Climate Change and Wildlife Science Center guidance: https://nccwsc.usgs.gov/?q=content/data-policies-and-guidance</a:t>
            </a:r>
            <a:endParaRPr b="0" lang="en-US" sz="24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65988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Expanded discussion by agency</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data management plann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ASA data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OAA Administrative Order 212-15, Management of Environmental and Geospatial Data and Information</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management pla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ocal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eservation strategies</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Ruth Duerr</dc:creator>
  <dc:description/>
  <cp:keywords/>
  <dc:language>en-US</dc:language>
  <cp:lastModifiedBy>Ruth Duerr</cp:lastModifiedBy>
  <dcterms:modified xsi:type="dcterms:W3CDTF">2012-05-29T16:53:54Z</dcterms:modified>
  <cp:revision>56</cp:revision>
  <dc:subject>Agency Requirements</dc:subject>
  <dc:title>ESIP Data Management Training</dc:title>
</cp:coreProperties>
</file>